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F154-EBA0-41EB-A3B7-C8F2D7E0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08D2-2BA1-4C89-A0C4-83B529CF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0B68-AD82-4263-9ADD-B5FBE974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6F4D-EF07-4850-ACD0-6F893B94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CFC1-CE5F-4554-886F-978EE685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E40B-EC0E-4CA7-ADCF-7F0940D8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F3CF-E4DA-4B7F-885A-9194FEE4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8916-FDA9-4F4F-9766-030C43FE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CAB9-7CCA-4065-9B42-84A78685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0B8C-FE7B-4C8C-9F31-7589D666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E1C8-EA07-4396-93D9-C140DDAA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F272-A04B-432A-9395-FDB0BD12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9306-FD30-424B-BC4C-0965AFA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490B-D497-4499-AD19-4BA49ED4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2ADD-B7EC-4A34-A560-9580EF88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7F6A-7C32-497A-B5F7-DB7BF1D8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472F-C918-4F37-8B31-243B7003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F151-E7BE-46E9-BEA7-A858D5A3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E2D2-7326-4005-B5AA-EFBCA709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73E4-A1EA-45F3-A738-FA79F758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78E6-4376-4688-B02B-A08EE887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9FDD-D680-42FC-B3B8-A616576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1105-BDDF-4344-BC5D-FAC6E655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F2AC-DB48-45D3-8615-0A9311E2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01EF-99A7-4417-A9D1-6519BEFB1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D454-F376-47D9-91F8-A85672292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allac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een comm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Fall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gative form, called “damning the origin”; in positive form, could be called “blessing the origin,” a kind of appeal to autho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argument to abstain from recreational drugs makes you sound like Nancy Rea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So?  Whatever you think of the former First Lady, an argument is neither right nor wrong for her—or for anyone’s—espous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noratio elen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ttempting to demonstrate one thesis while in fact demonstrating a different, irrelevant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shall prove Religion X to be true by showing that human beings are immoral without belief in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While belief in a God may have moral effects, it does nothing to show whether Religion X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ed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, loade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an attempt to bias the audience by the use of words chosen for their strong connotativ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rorists” or “freedom-fighter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ime” or “governmen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an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rguing that because it hasn’t been done or thought of before that it must be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gumentum ad antiquita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ppeal to tra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none of our scientists has ever even considered this theory before; if it were right, they would have thought of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Isaac Newton never imagined the Internet,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making an issue more simple than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the only way to solve child-behavior problems is to spank you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Even supposing spanking does work, what about talking to your children?  Spending quality time with them?  Seeing to it that they are involved in significant ways with their peers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soning the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 hom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asting doubt, aspersions or some other pall over an argument by creating negative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geo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gument that people should be free to pursue private interes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“Bourgeois” is used in an abusive way to make what comes next sound bad; it has nothing to do with the arg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ndum 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hasty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oming to a conclusion based on scanty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went out with three women, and they all dumped me.  I must not be attractive to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Keep up that kind of thinking, and you’re bound to be unlucky in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t’s related to “amphibia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a phrase or sentence that may have more than one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just can’t say enough good about this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mea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just nothing good to say about this person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son’s merits are so high they defy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ulum, argumentum 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th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issuing threats of force or violence to win agreement instead of by the weight of the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you don’t join my church, you’re going to go to 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Perhaps so, but this doesn’t really help me in my delib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fur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, false dicho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limiting choices to only two when there are more option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’re either with America, or you’re with the terro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One may not necessarily agree with either party or its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reasoning that what is true of the parts must be true of the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s the fallacy of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basketball team has five all-stars in its starting line up.  They’ll be sure to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Not so fast.  Each player may be a prima donna who doesn’t “play well with oth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ning the alter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laiming one argument to be right because an opposing argument i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other reasons have been shown wrong; this one must be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This one could be incorrect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ther reasons have been wrong may be reaso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, but not to accept it as correct without delib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assuming that what is true of the whole is true of the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s fallacy of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 went to Oxford.  She must be exceptionally bril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Not necessarily.  While Oxford may have many smart people in its halls and on the whole be a smart place, it doesn’t mean this pers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using the same words in more than one sense within the same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andy bar is better than nothing.  Nothing is better than love.  So, a candy bar is better than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“Nothing” is being used in two different senses, so the conclusion cannot follow from the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al pru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“pruning” meaning from a word’s generally accepted usage in order to save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know I told you I’d buy you a drink.  I just got you a s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tation: the commonly understood sense of the term would mean an alcoholic drink; the arguer is relying on the word’s multiple meanings to weasel his way out of a prom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5:42:44Z</dcterms:created>
  <dc:creator>csclab</dc:creator>
  <dc:description/>
  <dc:language>en-US</dc:language>
  <cp:lastModifiedBy>csclab</cp:lastModifiedBy>
  <dcterms:modified xsi:type="dcterms:W3CDTF">2010-01-14T21:56:13Z</dcterms:modified>
  <cp:revision>21</cp:revision>
  <dc:subject/>
  <dc:title>Logical Fallacies</dc:title>
</cp:coreProperties>
</file>